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6B50-D78B-4A83-8462-DCD9FD9FB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9BDFA3DB-D175-426C-8C3E-0FD8E795DB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6761C584-D4E3-47AB-8BCD-001A09E135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710EA1F5-03EF-4C71-A12B-50AA9ED5D7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27F8EEC-CB3B-4B10-AE50-77A1259FEF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C4650DB0-CA01-4DA6-A279-7C485C47D2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9417F09A-CA45-4341-B1B0-F5AB591570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FA48B60C-99B8-4462-8C58-9FDAF21875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9A52B8CF-D756-448C-944B-63B926DA83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929FB820-D641-4817-849F-C0AAECD05F9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1A472638-B9AC-490C-B864-6DD99A55D2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A7F01A1-309B-4714-BE27-A4E3054BF3C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2ACCA79-B543-4723-8233-BDE1A77F32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FA0CF6D4-602F-43FF-943A-42B68BC103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DF49CE3-211D-4605-AD83-E7BB2286F3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8279CDDA-A781-4152-BA4B-FF93352BB18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60480B16-CBF8-48BF-9971-A77F5DB589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92C7BF71-4A26-4EF6-815A-B27B5A5665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0F4CC463-02B0-480F-9DE6-5831BD5CA8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A344513-2433-4B62-9AE6-9F5A329C3C4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CCDC6F0-C4E0-4643-9A5B-C573FB9C85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52BD3BD4-AC36-4B9E-B2D9-400A5AFB1F7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A439924-07D2-4155-9782-1B44708987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9A370DE3-7B46-47B1-9065-E55B48559F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9D6D31C-8265-4879-8180-5EDAFDDA17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CF48542E-206D-4297-B2DA-FC69184DBF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5198F094-0E08-48BF-804B-4AC76F4D92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E4D3DC31-662E-49ED-B4C2-FE3D1058F4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6F5AEFCA-4732-4716-A060-2D0FE7E1DF0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B4CC29C-10B4-4E25-B9E4-E63DDF28D8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41357CA-7738-48BD-AF45-6F2A644250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42BF586-CFDB-406B-B301-FE19CDEDD5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0C1994F-14E3-4320-8E4D-02FC83ECB4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F7F0E647-7DEC-4996-91BE-8DFEFA04C2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0677B37D-7E38-4F6D-8B8D-6DB89031B8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2297369-6574-4607-A624-B7148033EFD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BEC-9AB0-4509-88B9-B9905C84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956-6DFC-49F5-9A9F-1BEFD725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38B-56B2-4A5F-A763-246647C2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58A-7C75-4C32-B6B7-8E3D0EA4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36A1-1CB0-424C-A95E-6E66E457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6EC-1CF9-4E24-ABAF-E2B72C7D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C68-8FA7-494E-A4DB-0DE70AC9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C62-BD2C-49F0-BC1B-2084F533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01D-3F1A-4DF9-8EE2-C585A2BB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F6C-7DF6-4FB2-AF69-C45A1345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308-1C6F-4698-A0DB-9FFB654F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24F-964A-4AB1-A2D9-8D5F9758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ABFA-070D-4B25-AA22-8A548C974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ozarkscrwp.wikispac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3 grant: College-Ready Writ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3040" y="3889440"/>
            <a:ext cx="639792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qu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October 21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OWP Icon"/>
          <p:cNvPicPr/>
          <p:nvPr/>
        </p:nvPicPr>
        <p:blipFill>
          <a:blip r:embed="rId1"/>
          <a:stretch/>
        </p:blipFill>
        <p:spPr>
          <a:xfrm>
            <a:off x="3048120" y="762120"/>
            <a:ext cx="29462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ing our 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380880" y="1143000"/>
            <a:ext cx="8229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your gro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termine who will go fir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oever has the next birthday will be 1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st person speaks for 1 min about his/he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oup members, listen. Some of you will be asked to share what one of your group members has 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 the person stops talking before time is called, group members ask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eat with person 2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ng our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457200" y="137160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lently reread your response to free-writing prompt 3 (my biggest challenge i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urn this free-write into a question you would like your group to disc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ng our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57200" y="13716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ew the consultancy protocol (hand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 rounds of consultancy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rief from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57200" y="137160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did the consultancy work for the grou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should the entire group h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problems are we fac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roughout the day, please add challenges in the form of questions to the “challenges” char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80880" y="137160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lease enjoy more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 will reconvene 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en you return, please form a group of 4 with entirely new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uperlativ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$2.00 Take Away (and fun with math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57200" y="990720"/>
            <a:ext cx="822960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ach word is worth $.10 (articles are f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You have $2.00 to sp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is your take away from this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ll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activity has a high likelihood (define?) of serious injury or death—i.e., paralysis, dismemberment, it is too r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57200" y="99072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 will reconvene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site 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457200" y="17524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ider adding your content to th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ozarkscrwp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lleen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alibri"/>
                <a:ea typeface="ＭＳ Ｐゴシック"/>
                <a:hlinkClick r:id="rId1"/>
              </a:rPr>
              <a:t>Further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OWP Icon"/>
          <p:cNvPicPr/>
          <p:nvPr/>
        </p:nvPicPr>
        <p:blipFill>
          <a:blip r:embed="rId2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736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lights from the Mentor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380880" y="18954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Without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609480" y="1905120"/>
            <a:ext cx="82296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: to engage in an exercise featuring truisms, text structures, and kernel essays, embedded in a focused free-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-purpose: to finish an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OWP Icon"/>
          <p:cNvPicPr/>
          <p:nvPr/>
        </p:nvPicPr>
        <p:blipFill>
          <a:blip r:embed="rId1"/>
          <a:stretch/>
        </p:blipFill>
        <p:spPr>
          <a:xfrm>
            <a:off x="673560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OWP Icon"/>
          <p:cNvPicPr/>
          <p:nvPr/>
        </p:nvPicPr>
        <p:blipFill>
          <a:blip r:embed="rId1"/>
          <a:stretch/>
        </p:blipFill>
        <p:spPr>
          <a:xfrm>
            <a:off x="6735600" y="578160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enjoy some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sit in groups of 3. Try to include representatives from more than one building in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not need your computers right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Without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ist of beliefs about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belief, “truism,” tru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kernel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write a first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OWP Icon"/>
          <p:cNvPicPr/>
          <p:nvPr/>
        </p:nvPicPr>
        <p:blipFill>
          <a:blip r:embed="rId1"/>
          <a:stretch/>
        </p:blipFill>
        <p:spPr>
          <a:xfrm>
            <a:off x="673560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 Bus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57200" y="175248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xt Mentor Less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do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can we help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osition notebooks—who would like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ching resources—using th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assroom coaching/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 Busines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430200" y="1219320"/>
            <a:ext cx="84088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aduat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eedback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ent to use stud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earch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next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ing an idea for a writing assignment/activity that you would like to try second semester. Something brand new or a major modifications to something you’ve done in the past. Bring something printed out (doesn’t have to be finaliz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-da-bing! -- Our 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your feet 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you saw (heard, touch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at you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h?id=H"/>
          <p:cNvPicPr/>
          <p:nvPr/>
        </p:nvPicPr>
        <p:blipFill>
          <a:blip r:embed="rId1"/>
          <a:stretch/>
        </p:blipFill>
        <p:spPr>
          <a:xfrm>
            <a:off x="6019920" y="1523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th?id=H"/>
          <p:cNvPicPr/>
          <p:nvPr/>
        </p:nvPicPr>
        <p:blipFill>
          <a:blip r:embed="rId2"/>
          <a:stretch/>
        </p:blipFill>
        <p:spPr>
          <a:xfrm>
            <a:off x="6934320" y="27432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th?id=H"/>
          <p:cNvPicPr/>
          <p:nvPr/>
        </p:nvPicPr>
        <p:blipFill>
          <a:blip r:embed="rId3"/>
          <a:stretch/>
        </p:blipFill>
        <p:spPr>
          <a:xfrm>
            <a:off x="6095880" y="4114800"/>
            <a:ext cx="1447920" cy="1274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OWP Icon"/>
          <p:cNvPicPr/>
          <p:nvPr/>
        </p:nvPicPr>
        <p:blipFill>
          <a:blip r:embed="rId4"/>
          <a:stretch/>
        </p:blipFill>
        <p:spPr>
          <a:xfrm>
            <a:off x="673560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uss what’s happening in your class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erience two strategies you coul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ink about where you want to go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OWP Icon"/>
          <p:cNvPicPr/>
          <p:nvPr/>
        </p:nvPicPr>
        <p:blipFill>
          <a:blip r:embed="rId1"/>
          <a:stretch/>
        </p:blipFill>
        <p:spPr>
          <a:xfrm>
            <a:off x="6735600" y="578160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457200" y="685800"/>
            <a:ext cx="815328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 will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ee-write about our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are what’s been happening in 3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ticipate in Believing and Doubting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nd some time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ine th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cuss mentor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rite using text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OWP Icon"/>
          <p:cNvPicPr/>
          <p:nvPr/>
        </p:nvPicPr>
        <p:blipFill>
          <a:blip r:embed="rId1"/>
          <a:stretch/>
        </p:blipFill>
        <p:spPr>
          <a:xfrm>
            <a:off x="6724800" y="5799240"/>
            <a:ext cx="240804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/Non-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685800" y="16765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To continue the process of reflecting and planning toward our individual and grant goals; to discuss successes and challe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-Purpos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solve all of our challe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OWP Icon"/>
          <p:cNvPicPr/>
          <p:nvPr/>
        </p:nvPicPr>
        <p:blipFill>
          <a:blip r:embed="rId1"/>
          <a:stretch/>
        </p:blipFill>
        <p:spPr>
          <a:xfrm>
            <a:off x="6724800" y="5773680"/>
            <a:ext cx="240804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th?id=H"/>
          <p:cNvPicPr/>
          <p:nvPr/>
        </p:nvPicPr>
        <p:blipFill>
          <a:blip r:embed="rId1"/>
          <a:stretch/>
        </p:blipFill>
        <p:spPr>
          <a:xfrm>
            <a:off x="5562720" y="457200"/>
            <a:ext cx="2971800" cy="2239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04920" y="17524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 your name to the sign-in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lease set cell phones to vib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eel comfortable stepping outside when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th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rking Lo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for your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 appreciate your name ta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OWP Icon"/>
          <p:cNvPicPr/>
          <p:nvPr/>
        </p:nvPicPr>
        <p:blipFill>
          <a:blip r:embed="rId2"/>
          <a:stretch/>
        </p:blipFill>
        <p:spPr>
          <a:xfrm>
            <a:off x="6400800" y="556272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N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tart and end o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bring food (healthy and sinfu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talk and collaborate respect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keep Laquey at the forefr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be receptive to learning from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address our comfort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introduce researched best practic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provide/develop materials for content area teach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OWP Icon"/>
          <p:cNvPicPr/>
          <p:nvPr/>
        </p:nvPicPr>
        <p:blipFill>
          <a:blip r:embed="rId1"/>
          <a:stretch/>
        </p:blipFill>
        <p:spPr>
          <a:xfrm>
            <a:off x="6400800" y="556272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OWP Icon"/>
          <p:cNvPicPr/>
          <p:nvPr/>
        </p:nvPicPr>
        <p:blipFill>
          <a:blip r:embed="rId1"/>
          <a:stretch/>
        </p:blipFill>
        <p:spPr>
          <a:xfrm>
            <a:off x="6756480" y="5799240"/>
            <a:ext cx="2408040" cy="1058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into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-wr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rand new thing 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 tried in my classroom related to writing/this PD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ing my goal from the year, my biggest success so far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ing my goal from the year, my biggest challenge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ebrating our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457200" y="175248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lently reread your response to the first prompt (one thing I’ve tried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derline something you want to share—a maximum of one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ip a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00:17:00Z</dcterms:created>
  <dc:creator>Colleen</dc:creator>
  <dc:description/>
  <dc:language>en-US</dc:language>
  <cp:lastModifiedBy>Colleen</cp:lastModifiedBy>
  <dcterms:modified xsi:type="dcterms:W3CDTF">2013-10-21T00:34:11Z</dcterms:modified>
  <cp:revision>4</cp:revision>
  <dc:subject/>
  <dc:title>Slide 1</dc:title>
</cp:coreProperties>
</file>